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5E4-6BB5-48B4-8686-8E100BB7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BD3-730E-423E-B919-6D6252D6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DFB-AD2E-4AE5-B49E-CD705B58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467-D51E-4E15-8DB1-7B8BCF38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D94-A606-4AFD-BBD1-735D58F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CB6-2973-4B17-82D0-E7EF085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E4B-F052-48A2-907C-62ED216B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350-6C85-4B5A-973B-AF51DEF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7A1-FFA2-4179-A638-A182034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0C-6CE2-4583-AB09-BF8A5D5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192-B234-47BA-A13F-8630E85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975-B63A-4AF1-8617-DFCF5BC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95F2-5568-43DB-B71D-DDE70CF9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anagement Syste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 C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88620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Swe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Re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oodle.or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ood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nst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810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the following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anage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: Instructional tool that allows instructors, universities and corporations develop and support onlin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WebTycho, WebCT, Blackboard and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ontent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social construct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to Blackboard in 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: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esources a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nd review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quizzes an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grades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: Tech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-bas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mot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developed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most popular operating systems including Windows and 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-Source =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27672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rt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6:19Z</dcterms:created>
  <dc:creator>Eugene Sweeney</dc:creator>
  <dc:description/>
  <dc:language>en-US</dc:language>
  <cp:lastModifiedBy>KASD KASD</cp:lastModifiedBy>
  <dcterms:modified xsi:type="dcterms:W3CDTF">2008-03-26T22:18:27Z</dcterms:modified>
  <cp:revision>6</cp:revision>
  <dc:subject/>
  <dc:title>Course Management System Moodle</dc:title>
</cp:coreProperties>
</file>